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ct" ContentType="image/x-pict"/>
  <Override PartName="/ppt/media/image7.jpeg" ContentType="image/jpeg"/>
  <Override PartName="/ppt/media/image4.pct" ContentType="image/x-pict"/>
  <Override PartName="/ppt/media/image5.jpeg" ContentType="image/jpeg"/>
  <Override PartName="/ppt/media/image10.jpeg" ContentType="image/jpeg"/>
  <Override PartName="/ppt/media/image6.pct" ContentType="image/x-pict"/>
  <Override PartName="/ppt/media/image11.pct" ContentType="image/x-pict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A0D8-0A98-4B09-A3DD-8FD64F039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C457-6717-428B-9250-6D15F8ED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BB4B-6B77-49D0-B4A2-C8A9E938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E149-3CB5-4C46-AFC1-AF0E9E9A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F656-FAD7-4388-9094-F93B1E78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4D08-0EF2-4046-AE45-B61E12A0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844C-552A-4C17-B9D1-65D8FE91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7B9E-DA89-4322-919D-171C8FD3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2CB2-CD73-4FAD-9846-C57B56F6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ED02-AD24-411C-8E72-B9F38F6A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52AE-8ED3-4BF6-9039-9E0B66C0A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9A41-3110-4696-80F1-C6DA36B43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AF6A-015F-4167-8388-55C091B55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22240" y="3621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219320" y="685800"/>
            <a:ext cx="6553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b62b00"/>
                  </a:solidFill>
                  <a:miter/>
                </a:ln>
                <a:solidFill>
                  <a:srgbClr val="9c7862"/>
                </a:solidFill>
                <a:latin typeface="Brush Script MT"/>
              </a:rPr>
              <a:t>Cornell</a:t>
            </a:r>
            <a:endParaRPr b="0" lang="en-US" sz="9600" spc="1" strike="noStrike">
              <a:ln w="19080">
                <a:solidFill>
                  <a:srgbClr val="b62b00"/>
                </a:solidFill>
                <a:miter/>
              </a:ln>
              <a:solidFill>
                <a:srgbClr val="9c7862"/>
              </a:solidFill>
              <a:latin typeface="Brush Script MT"/>
              <a:ea typeface="Brush Script M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66680" y="3962520"/>
            <a:ext cx="472464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b62b00"/>
                  </a:solidFill>
                  <a:miter/>
                </a:ln>
                <a:solidFill>
                  <a:srgbClr val="9c7862"/>
                </a:solidFill>
                <a:latin typeface="Brush Script MT"/>
              </a:rPr>
              <a:t>Notes</a:t>
            </a:r>
            <a:endParaRPr b="0" lang="en-US" sz="9600" spc="1" strike="noStrike">
              <a:ln w="19080">
                <a:solidFill>
                  <a:srgbClr val="b62b00"/>
                </a:solidFill>
                <a:miter/>
              </a:ln>
              <a:solidFill>
                <a:srgbClr val="9c7862"/>
              </a:solidFill>
              <a:latin typeface="Brush Script MT"/>
              <a:ea typeface="Brush Script MT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943600" y="2666880"/>
            <a:ext cx="2766960" cy="34704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2514600" y="10969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Be an Active R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066680" y="1828800"/>
            <a:ext cx="76201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000" spc="-1" strike="noStrike" u="sng">
                <a:solidFill>
                  <a:srgbClr val="000000"/>
                </a:solidFill>
                <a:uFillTx/>
                <a:latin typeface="Arial"/>
              </a:rPr>
              <a:t>Think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about the rea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Consider how th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parts relate to the whol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; how the text relates to previous id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Create questions about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new word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/ terms, why emphasized points are import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Examine what you have                 learned from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visu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2" dur="1" fill="hold"/>
                                  <p:tgtEl>
                                    <p:spTgt spid="33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066680" y="1828800"/>
            <a:ext cx="76201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Look for th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pattern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in elements like chapter /subsection  headings, summary points, graphics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Know where to find th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index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gloss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10969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Be Aware of Textbook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1" dur="1" fill="hold"/>
                                  <p:tgtEl>
                                    <p:spTgt spid="33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066680" y="1828800"/>
            <a:ext cx="7696440" cy="35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Become familiar with the font, symbols, borders, graphics, colors, and layout that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highlight main idea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or ter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Be alert to the writer's goal: highlight ideas/ references /opinions that seem significant to their                                        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point of view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990720" y="11574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cc0000"/>
                </a:solidFill>
                <a:latin typeface="Arial"/>
              </a:rPr>
              <a:t>Use the text style to identify important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0" dur="1" fill="hold"/>
                                  <p:tgtEl>
                                    <p:spTgt spid="34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066680" y="1828800"/>
            <a:ext cx="792504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Include headings, key terms, &amp;  graph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Take down only the important ideas: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brief, but clear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Summarize in your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own wo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symbol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highlight for review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textbook review                              question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develop                                         study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057400" y="10969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cc0000"/>
                </a:solidFill>
                <a:latin typeface="Arial"/>
              </a:rPr>
              <a:t>Take notes whil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4" dur="1" fill="hold"/>
                                  <p:tgtEl>
                                    <p:spTgt spid="344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2057400" y="10969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cc0000"/>
                </a:solidFill>
                <a:latin typeface="Arial"/>
              </a:rPr>
              <a:t>Review textbook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1066680" y="1828800"/>
            <a:ext cx="76201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Identify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main idea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Fill in detail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for better understan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Identify unclear information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and/or questions - collaborate for answ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Delete unnecessary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Review note organization;                                       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add symbol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or rewri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Write a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summ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3" dur="1" fill="hold"/>
                                  <p:tgtEl>
                                    <p:spTgt spid="350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066680" y="1828800"/>
            <a:ext cx="76201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discussion topics/questions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organiz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your n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symbol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for important id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Include your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own response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in n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Develop questions to review l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Add reference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other                              material as they come                                      to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5867280" y="4952880"/>
            <a:ext cx="2925720" cy="161784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1523880" y="380880"/>
            <a:ext cx="67057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Discussion 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2" dur="1" fill="hold"/>
                                  <p:tgtEl>
                                    <p:spTgt spid="35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1066680" y="1828800"/>
            <a:ext cx="76201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Cover the right sid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of your notes; review and answer study questions from the left using the right side as an answer k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Quiz yourself out lou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Cover the right side with blank                paper;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write out answer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                           the left column  study                          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6705720" y="4691160"/>
          <a:ext cx="2179440" cy="18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691160"/>
                    <a:ext cx="217944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"/>
          <p:cNvSpPr/>
          <p:nvPr/>
        </p:nvSpPr>
        <p:spPr>
          <a:xfrm>
            <a:off x="2364840" y="1066680"/>
            <a:ext cx="46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Make use of the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for Studying with 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6" dur="1" fill="hold"/>
                                  <p:tgtEl>
                                    <p:spTgt spid="35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066680" y="1828800"/>
            <a:ext cx="76201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Write summaries of th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most important material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in the summary/reflection s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Write a quiz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for others using notes; exchange and corr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Writ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anticipated test question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beyond those already in the                          left-hand column and write                           answ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886200" y="1096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Wri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6705720" y="4691160"/>
          <a:ext cx="2179440" cy="18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691160"/>
                    <a:ext cx="217944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for Studying with 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0" dur="1" fill="hold"/>
                                  <p:tgtEl>
                                    <p:spTgt spid="36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066680" y="1828800"/>
            <a:ext cx="7620120" cy="27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Look over notes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frequently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- the first time within 48 hours - to                       keep information and questions                 still unanswered fresh in mind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Recit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information from notes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657600" y="10969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6705720" y="4691160"/>
          <a:ext cx="2179440" cy="18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691160"/>
                    <a:ext cx="217944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for Studying with 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9" dur="1" fill="hold"/>
                                  <p:tgtEl>
                                    <p:spTgt spid="3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066680" y="1828800"/>
            <a:ext cx="762012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Exchange note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with others to flesh out information and understanding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notes in </a:t>
            </a:r>
            <a:r>
              <a:rPr b="1" sz="3000" spc="-1" strike="noStrike">
                <a:solidFill>
                  <a:srgbClr val="660066"/>
                </a:solidFill>
                <a:latin typeface="Arial"/>
              </a:rPr>
              <a:t>study group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provide a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common ground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of material for reference and re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Rewrit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notes if necessary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743200" y="10969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tudy in a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6705720" y="4691160"/>
          <a:ext cx="2179440" cy="18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691160"/>
                    <a:ext cx="217944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for Studying with 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3" dur="1" fill="hold"/>
                                  <p:tgtEl>
                                    <p:spTgt spid="37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066680" y="457200"/>
            <a:ext cx="7467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Why take notes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1600200"/>
            <a:ext cx="701064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nell note taking stimulate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ritical thinking sk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e taking helps student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member what is sai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good set of notes can help students work on assignments and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repare for tes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utside of the class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315200" y="1828800"/>
            <a:ext cx="1541520" cy="17524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9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66680" y="1600200"/>
            <a:ext cx="777240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od notes allow students to help each other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roblem solv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od Notes help student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organize and process dat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ps student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cal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y                      getting them to process                         their notes 3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66680" y="457200"/>
            <a:ext cx="7467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Why take notes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315200" y="3962520"/>
            <a:ext cx="1541520" cy="1752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066680" y="5638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Arial"/>
              </a:rPr>
              <a:t>Writing is a great tool for learn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" dur="1" fill="hold"/>
                                  <p:tgtEl>
                                    <p:spTgt spid="9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447920" y="457200"/>
            <a:ext cx="6781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What goes where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16002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80680" y="3376440"/>
            <a:ext cx="562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Not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go here, in th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rge right hand colum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6200" y="1574640"/>
            <a:ext cx="2161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Ques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titl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c. go he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lef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 colum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emb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510552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2 to 3 sentenc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umma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wn there on the bottom of the last page of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5881680"/>
            <a:ext cx="333360" cy="671400"/>
          </a:xfrm>
          <a:prstGeom prst="downArrow">
            <a:avLst>
              <a:gd name="adj1" fmla="val 50000"/>
              <a:gd name="adj2" fmla="val 50351"/>
            </a:avLst>
          </a:prstGeom>
          <a:solidFill>
            <a:srgbClr val="a3816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86000" y="1573200"/>
            <a:ext cx="492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’t forget th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ead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, Class, Period, Date,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86600" y="1295280"/>
            <a:ext cx="257040" cy="671760"/>
          </a:xfrm>
          <a:prstGeom prst="upArrow">
            <a:avLst>
              <a:gd name="adj1" fmla="val 50000"/>
              <a:gd name="adj2" fmla="val 65336"/>
            </a:avLst>
          </a:prstGeom>
          <a:solidFill>
            <a:srgbClr val="a3816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05120" y="228600"/>
            <a:ext cx="0" cy="6400800"/>
          </a:xfrm>
          <a:prstGeom prst="line">
            <a:avLst/>
          </a:prstGeom>
          <a:ln w="936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47680" y="353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47680" y="353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667720" y="3538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667720" y="3538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47680" y="360360"/>
            <a:ext cx="648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667720" y="360360"/>
            <a:ext cx="468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47680" y="671400"/>
            <a:ext cx="648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84400" y="723960"/>
            <a:ext cx="50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667720" y="671400"/>
            <a:ext cx="468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47680" y="725400"/>
            <a:ext cx="6480" cy="53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84400" y="725400"/>
            <a:ext cx="5040" cy="53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667720" y="725400"/>
            <a:ext cx="4680" cy="53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47680" y="1255680"/>
            <a:ext cx="6480" cy="514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47680" y="63975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47680" y="63975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54160" y="6397560"/>
            <a:ext cx="1830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84400" y="1255680"/>
            <a:ext cx="5040" cy="514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84400" y="6397560"/>
            <a:ext cx="5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89440" y="6397560"/>
            <a:ext cx="5678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667720" y="1255680"/>
            <a:ext cx="4680" cy="514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667720" y="639756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667720" y="639756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28960" y="6402240"/>
            <a:ext cx="36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131480" y="152280"/>
            <a:ext cx="7796880" cy="6420240"/>
            <a:chOff x="1131480" y="152280"/>
            <a:chExt cx="7796880" cy="6420240"/>
          </a:xfrm>
        </p:grpSpPr>
        <p:pic>
          <p:nvPicPr>
            <p:cNvPr id="131" name="" descr=""/>
            <p:cNvPicPr/>
            <p:nvPr/>
          </p:nvPicPr>
          <p:blipFill>
            <a:blip r:embed="rId1">
              <a:lum contrast="12000"/>
            </a:blip>
            <a:stretch/>
          </p:blipFill>
          <p:spPr>
            <a:xfrm>
              <a:off x="1600200" y="4572000"/>
              <a:ext cx="958680" cy="10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1210320" y="361800"/>
              <a:ext cx="1154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Subject:  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8880" y="361800"/>
              <a:ext cx="2817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800000"/>
                  </a:solidFill>
                  <a:latin typeface="Arial"/>
                </a:rPr>
                <a:t>Why take Cornell note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13280" y="361800"/>
              <a:ext cx="3889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                              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Date: 11/20/0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555760" y="152280"/>
              <a:ext cx="135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47680" y="35388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47680" y="35388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47680" y="35388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47680" y="35388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54160" y="353880"/>
              <a:ext cx="7513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54160" y="353880"/>
              <a:ext cx="7513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667720" y="3538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667720" y="35388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667720" y="3538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667720" y="35388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47680" y="360360"/>
              <a:ext cx="1800" cy="31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667720" y="360360"/>
              <a:ext cx="1440" cy="31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3000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2064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79400" y="73656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70040" y="72720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41040" y="736560"/>
              <a:ext cx="188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31680" y="727200"/>
              <a:ext cx="188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016000" y="73656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06640" y="72720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7800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17152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2848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1912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47788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46852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62692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62044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7616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(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6644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(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4600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3628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87776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86804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00628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99836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08080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06964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0788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9996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3964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32992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1092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0156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80760" y="9954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71400" y="985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9800" y="736560"/>
              <a:ext cx="201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M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870440" y="727200"/>
              <a:ext cx="201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M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6880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5944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9408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18436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25600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4628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388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8452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5580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4788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51952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d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0980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d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65776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64840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8160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7224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0724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89752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3072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2100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094440" y="7365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(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086520" y="72720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(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7040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6068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3232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2260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37020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6084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50664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u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9728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u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45240" y="7365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635880" y="72720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21560" y="7365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11840" y="72720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79572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78636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147680" y="67140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154160" y="671400"/>
              <a:ext cx="18302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154160" y="671400"/>
              <a:ext cx="18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54160" y="687240"/>
              <a:ext cx="18302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154160" y="687240"/>
              <a:ext cx="18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984400" y="723960"/>
              <a:ext cx="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984400" y="671400"/>
              <a:ext cx="493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984400" y="67140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984400" y="687240"/>
              <a:ext cx="493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984400" y="68724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033720" y="671400"/>
              <a:ext cx="56340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033720" y="671400"/>
              <a:ext cx="563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033720" y="687240"/>
              <a:ext cx="56340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033720" y="687240"/>
              <a:ext cx="563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667720" y="6714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47680" y="725400"/>
              <a:ext cx="1800" cy="53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984400" y="725400"/>
              <a:ext cx="1800" cy="53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667720" y="725400"/>
              <a:ext cx="1440" cy="53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11040" y="1255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211040" y="1527120"/>
              <a:ext cx="1059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How can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210680" y="1800360"/>
              <a:ext cx="1609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Cornell notes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11400" y="2071800"/>
              <a:ext cx="979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help me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11400" y="2344680"/>
              <a:ext cx="1474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organize my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211040" y="2616120"/>
              <a:ext cx="765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idea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23840" y="26161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11040" y="28893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210680" y="3162240"/>
              <a:ext cx="1730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Which side for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11760" y="3433680"/>
              <a:ext cx="122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diagram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52240" y="3433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211040" y="37069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11040" y="3976560"/>
              <a:ext cx="1059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Why use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210680" y="4249800"/>
              <a:ext cx="177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concept map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62000" y="42498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211040" y="452124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211040" y="47941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211040" y="5065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211040" y="53388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10680" y="5610240"/>
              <a:ext cx="1515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What are the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210320" y="5883120"/>
              <a:ext cx="178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benefits to me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76040" y="58831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48120" y="1255680"/>
              <a:ext cx="410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429360" y="1255680"/>
              <a:ext cx="5331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be used to provide an outline of chapter or lecture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427960" y="12556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047760" y="1500120"/>
              <a:ext cx="3854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rganized by main ideas and details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57840" y="1500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47040" y="1746360"/>
              <a:ext cx="343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as detailed as necessary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264360" y="17463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48120" y="1989000"/>
              <a:ext cx="1095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equentia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71960" y="1989000"/>
              <a:ext cx="144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206960" y="1989000"/>
              <a:ext cx="4659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ake notes as they are given by instructor or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048840" y="2233440"/>
              <a:ext cx="2689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ext in an orderly fashion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567400" y="22334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048480" y="2479680"/>
              <a:ext cx="534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fter class, write a summary of what you learned to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7760" y="2724120"/>
              <a:ext cx="5450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larify and reinforce learning and to assist retention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155080" y="2724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46680" y="2970360"/>
              <a:ext cx="2812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used as study tool: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678640" y="29703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049560" y="3214800"/>
              <a:ext cx="587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. Define terms or explain concepts listed on left side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561520" y="3214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049200" y="3459240"/>
              <a:ext cx="5182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. Identify the concept or term on the right side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07400" y="3459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049560" y="3705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045960" y="3946680"/>
              <a:ext cx="570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used to provide a "big picture" of the chapter o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049560" y="4194000"/>
              <a:ext cx="828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lecture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24280" y="41940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044520" y="4419720"/>
              <a:ext cx="4146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rganized by main ideas and sub-topic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040520" y="4438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47400" y="4683240"/>
              <a:ext cx="4815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Limited in how much detail you can represent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564320" y="4683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47760" y="4929120"/>
              <a:ext cx="1478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imultaneous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431960" y="49291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497840" y="4929120"/>
              <a:ext cx="4191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you can use this method for instructors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47400" y="5173560"/>
              <a:ext cx="3877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ho jump around from topic to topic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688080" y="51735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46680" y="5419800"/>
              <a:ext cx="5092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fter class, you can add questions to the left sid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816680" y="5419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046680" y="5664240"/>
              <a:ext cx="2920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used as a study tool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80160" y="5664240"/>
              <a:ext cx="144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915880" y="5664240"/>
              <a:ext cx="2496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o get a quick overview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045600" y="5908680"/>
              <a:ext cx="581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nd to determine whether you need more information or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45600" y="6153120"/>
              <a:ext cx="5226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need to concentrate your study on specific topics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938360" y="617544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147680" y="1255680"/>
              <a:ext cx="1800" cy="514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47680" y="639756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147680" y="63975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147680" y="639756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147680" y="63975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154160" y="6397560"/>
              <a:ext cx="18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984400" y="1255680"/>
              <a:ext cx="1800" cy="514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984400" y="6397560"/>
              <a:ext cx="5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84400" y="63975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989440" y="6397560"/>
              <a:ext cx="5678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667720" y="1255680"/>
              <a:ext cx="1440" cy="514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667720" y="639756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667720" y="639756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667720" y="639756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667720" y="639756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131480" y="6419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8" name=""/>
          <p:cNvGraphicFramePr/>
          <p:nvPr/>
        </p:nvGraphicFramePr>
        <p:xfrm>
          <a:off x="1066680" y="473040"/>
          <a:ext cx="7813800" cy="295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73040"/>
                    <a:ext cx="7813800" cy="29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"/>
          <p:cNvSpPr/>
          <p:nvPr/>
        </p:nvSpPr>
        <p:spPr>
          <a:xfrm>
            <a:off x="1371600" y="3657600"/>
            <a:ext cx="6858000" cy="265356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36600">
              <a:buClr>
                <a:srgbClr val="660066"/>
              </a:buClr>
              <a:buFont typeface="Arial"/>
              <a:buChar char="•"/>
              <a:tabLst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is added at the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end of ALL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ote pag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n the subject (not p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36600">
              <a:buClr>
                <a:srgbClr val="660066"/>
              </a:buClr>
              <a:buFont typeface="Arial"/>
              <a:buChar char="•"/>
              <a:tabLst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add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F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fin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36600">
              <a:buClr>
                <a:srgbClr val="660066"/>
              </a:buClr>
              <a:buFont typeface="Arial"/>
              <a:buChar char="•"/>
              <a:tabLst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shoul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swer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proble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tated in the su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3581280" y="2590920"/>
            <a:ext cx="5257800" cy="35989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152388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Example 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429000" y="13716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50040" y="1444680"/>
            <a:ext cx="347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(Diagram copi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during lecture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050840" y="1477800"/>
            <a:ext cx="245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(Questions about it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143000" y="2438280"/>
            <a:ext cx="2301840" cy="40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w do the ticks find the cattl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y don’t the ticks usually kill their hos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w could tick infestations in cattle impact human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3" dur="1" fill="hold"/>
                                  <p:tgtEl>
                                    <p:spTgt spid="32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3886200" y="228600"/>
            <a:ext cx="4952880" cy="64008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4191120" y="45720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throp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295280" y="838080"/>
            <a:ext cx="21337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Ninth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Grade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Biolog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1219320" y="533520"/>
            <a:ext cx="723888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33"/>
                </a:solidFill>
                <a:latin typeface="Arial Black"/>
              </a:rPr>
              <a:t>Note Taking Tip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6633"/>
              </a:solidFill>
              <a:latin typeface="Arial Black"/>
              <a:ea typeface="Arial Black"/>
            </a:endParaRPr>
          </a:p>
        </p:txBody>
      </p:sp>
      <p:sp>
        <p:nvSpPr>
          <p:cNvPr id="331" name=""/>
          <p:cNvSpPr/>
          <p:nvPr/>
        </p:nvSpPr>
        <p:spPr>
          <a:xfrm>
            <a:off x="917640" y="1676520"/>
            <a:ext cx="7886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peaker say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“Hippocrates,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eek who is considered to be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ther of modern medicine, w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rn on the island of Cos 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60 B.C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Notes sa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“Hippocrates (Gr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ther of med. B. Cos 460BC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6T18:06:01Z</dcterms:created>
  <dc:creator>CIS</dc:creator>
  <dc:description/>
  <dc:language>en-US</dc:language>
  <cp:lastModifiedBy>Saddleback High</cp:lastModifiedBy>
  <cp:lastPrinted>2001-08-14T21:30:16Z</cp:lastPrinted>
  <dcterms:modified xsi:type="dcterms:W3CDTF">2009-06-08T13:58:07Z</dcterms:modified>
  <cp:revision>150</cp:revision>
  <dc:subject/>
  <dc:title>PowerPoint Presentation</dc:title>
</cp:coreProperties>
</file>